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jpeg" ContentType="image/jpeg"/>
  <Override PartName="/ppt/media/camera.wav" ContentType="audio/x-wav"/>
  <Override PartName="/ppt/media/whoosh.wav" ContentType="audio/x-wav"/>
  <Override PartName="/ppt/media/image8.jpeg" ContentType="image/jpeg"/>
  <Override PartName="/ppt/media/image10.jpeg" ContentType="image/jpeg"/>
  <Override PartName="/ppt/media/type.wav" ContentType="audio/x-wav"/>
  <Override PartName="/ppt/media/image4.jpeg" ContentType="image/jpeg"/>
  <Override PartName="/ppt/media/driveby.wav" ContentType="audio/x-wav"/>
  <Override PartName="/ppt/media/cashreg.wav" ContentType="audio/x-wav"/>
  <Override PartName="/ppt/media/image12.jpeg" ContentType="image/jpeg"/>
  <Override PartName="/ppt/media/image15.jpeg" ContentType="image/jpeg"/>
  <Override PartName="/ppt/media/image14.png" ContentType="image/png"/>
  <Override PartName="/ppt/media/projctor.wav" ContentType="audio/x-wav"/>
  <Override PartName="/ppt/media/image13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7.jpeg" ContentType="image/jpeg"/>
  <Override PartName="/ppt/media/image1.jpeg" ContentType="image/jpeg"/>
  <Override PartName="/ppt/media/image6.jpeg" ContentType="image/jpeg"/>
  <Override PartName="/ppt/media/applause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B81-6856-4613-A981-2B031BF5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A55-850B-4C9A-A123-6BD1375E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18E-DF0B-47D2-8E9C-8DA0D952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6A6-02D7-42BF-BB5E-90E03471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7880-4C3F-4012-8D0F-ADC5F971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A6E9-CEF9-40D8-A420-DDA3CA50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329B-AC9A-4843-9DBB-15B61904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6FCC-E3DB-464A-87E1-7EE07641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B532-E2E3-41BB-8729-00284B3E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16A1-BB03-4313-ADDD-3D7C604B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7699-DD37-487A-A211-800865EA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91B-2EA6-4F77-A93A-5FAF9512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B691-3F64-4462-AE9A-D20BC798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09AB-70F5-4788-BBF7-A99ED282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0E2C-DF89-46AB-BACA-876CA3A8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421E-7627-46E7-9A38-8DDB8892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9183-86B0-4D6D-99C5-BDF4E54C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461-F235-4E3C-B51B-58ECEDB1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2DE-DAFE-4FA1-B19A-9DA82A6D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4A7-C10C-444D-B00B-CCF0C907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5ED-EBC5-451F-A30C-F82AB98C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DB6-7C6A-4FFC-986A-3E2D4FA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E1E-EF95-4CCD-9D36-CFD8075B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C3C-0D02-473C-9912-6EAFE673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24D5-A983-41BA-8E34-ED701B4893F0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A3CC-1789-4778-864D-54F337CD27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4F65-09BC-44D2-8C76-A01CE9B18DA6}" type="datetime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ACC2-DB53-41D8-BDC5-BBA166130D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024680" cy="4459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宋体"/>
              </a:rPr>
              <a:t>    </a:t>
            </a: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世界性贸易</a:t>
            </a:r>
            <a:br>
              <a:rPr sz="8000"/>
            </a:b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   </a:t>
            </a:r>
            <a:br>
              <a:rPr sz="8000"/>
            </a:br>
            <a:r>
              <a:rPr b="1" lang="zh-CN" sz="8000" spc="-1" strike="noStrike">
                <a:solidFill>
                  <a:srgbClr val="ff3300"/>
                </a:solidFill>
                <a:latin typeface="隶书"/>
                <a:ea typeface="隶书"/>
              </a:rPr>
              <a:t>   金融组织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23880" y="3657240"/>
            <a:ext cx="2743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733920" y="4419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962520" y="4343400"/>
            <a:ext cx="472428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00"/>
                </a:solidFill>
                <a:latin typeface="Times New Roman"/>
                <a:ea typeface="宋体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28600" y="609480"/>
            <a:ext cx="8915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为什么是？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中国提出恢复缔约国的地位，其原因是什么？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中国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复关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 和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入世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 的进程步履艰难，问题的症结何在？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中国入世的有哪些重大事件。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谈谈中国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入世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 利与弊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、中国是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TO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的创始国之一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中国与欧盟就中国入世问题谈判"/>
          <p:cNvPicPr/>
          <p:nvPr/>
        </p:nvPicPr>
        <p:blipFill>
          <a:blip r:embed="rId1"/>
          <a:stretch/>
        </p:blipFill>
        <p:spPr>
          <a:xfrm>
            <a:off x="1066680" y="304920"/>
            <a:ext cx="6934320" cy="51051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371600" y="5410080"/>
            <a:ext cx="746748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              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中国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欧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就中国入世问题进行谈判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中美就中国加入WTO新一轮谈判"/>
          <p:cNvPicPr/>
          <p:nvPr/>
        </p:nvPicPr>
        <p:blipFill>
          <a:blip r:embed="rId1"/>
          <a:stretch/>
        </p:blipFill>
        <p:spPr>
          <a:xfrm>
            <a:off x="1295280" y="380880"/>
            <a:ext cx="6629400" cy="4648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2057400" y="5257800"/>
            <a:ext cx="548640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中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美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就中国入世进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新一轮谈判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中国入世一锤定音"/>
          <p:cNvPicPr/>
          <p:nvPr/>
        </p:nvPicPr>
        <p:blipFill>
          <a:blip r:embed="rId1"/>
          <a:stretch/>
        </p:blipFill>
        <p:spPr>
          <a:xfrm>
            <a:off x="1219320" y="457200"/>
            <a:ext cx="6324480" cy="4724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2133720" y="54864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华文中宋"/>
              </a:rPr>
              <a:t>中国入世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一锤定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e5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362320" y="57150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00"/>
                </a:solidFill>
                <a:latin typeface="Times New Roman"/>
                <a:ea typeface="黑体"/>
              </a:rPr>
              <a:t>中国入世啦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64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e3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828800" y="57150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石广生    香槟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庆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入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6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bbd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4" descr="中国常驻世界贸易组织代表团日内瓦举行了隆重的揭牌开馆仪式"/>
          <p:cNvPicPr/>
          <p:nvPr/>
        </p:nvPicPr>
        <p:blipFill>
          <a:blip r:embed="rId1"/>
          <a:stretch/>
        </p:blipFill>
        <p:spPr>
          <a:xfrm>
            <a:off x="838080" y="228600"/>
            <a:ext cx="8001000" cy="4908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057400" y="5334120"/>
            <a:ext cx="571500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中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常住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WTO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代表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在日内瓦举行揭牌仪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7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中国代表团长、外经贸部首席谈判代表龙永图"/>
          <p:cNvPicPr/>
          <p:nvPr/>
        </p:nvPicPr>
        <p:blipFill>
          <a:blip r:embed="rId1"/>
          <a:stretch/>
        </p:blipFill>
        <p:spPr>
          <a:xfrm>
            <a:off x="1600200" y="228600"/>
            <a:ext cx="6095880" cy="5029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981080" y="524196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宋体"/>
              </a:rPr>
              <a:t>外经贸部首席谈判代表  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黑体"/>
              </a:rPr>
              <a:t>龙永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6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华文中宋"/>
                <a:ea typeface="华文中宋"/>
              </a:rPr>
              <a:t> </a:t>
            </a:r>
            <a:r>
              <a:rPr b="0" lang="zh-CN" sz="4800" spc="-1" strike="noStrike">
                <a:solidFill>
                  <a:srgbClr val="808000"/>
                </a:solidFill>
                <a:latin typeface="黑体"/>
                <a:ea typeface="黑体"/>
              </a:rPr>
              <a:t>二</a:t>
            </a:r>
            <a:r>
              <a:rPr b="0" lang="zh-CN" sz="4800" spc="-1" strike="noStrike">
                <a:solidFill>
                  <a:srgbClr val="808000"/>
                </a:solidFill>
                <a:latin typeface="华文中宋"/>
                <a:ea typeface="华文中宋"/>
              </a:rPr>
              <a:t>、</a:t>
            </a:r>
            <a:r>
              <a:rPr b="0" lang="zh-CN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国际货币基组织 世界银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0160" y="1906200"/>
            <a:ext cx="7238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、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IMF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）基本情况     （</a:t>
            </a: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）目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huobijijin"/>
          <p:cNvPicPr/>
          <p:nvPr/>
        </p:nvPicPr>
        <p:blipFill>
          <a:blip r:embed="rId2"/>
          <a:stretch/>
        </p:blipFill>
        <p:spPr>
          <a:xfrm>
            <a:off x="2743200" y="3505320"/>
            <a:ext cx="3733920" cy="2819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World     Bank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(1)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基本情况  （</a:t>
            </a:r>
            <a:r>
              <a:rPr b="1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）目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）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重要作用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第一，指导成员国摆脱国际收支困境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第二，在一定程度上促进了发展中国家的经济发展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）中国是</a:t>
            </a:r>
            <a:r>
              <a:rPr b="1" lang="en-US" sz="4800" spc="-1" strike="noStrike">
                <a:solidFill>
                  <a:srgbClr val="808000"/>
                </a:solidFill>
                <a:latin typeface="黑体"/>
                <a:ea typeface="黑体"/>
              </a:rPr>
              <a:t>IMF</a:t>
            </a:r>
            <a:r>
              <a:rPr b="1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和</a:t>
            </a:r>
            <a:r>
              <a:rPr b="1" lang="en-US" sz="4400" spc="-1" strike="noStrike">
                <a:solidFill>
                  <a:srgbClr val="808000"/>
                </a:solidFill>
                <a:latin typeface="Tahoma"/>
              </a:rPr>
              <a:t>World   Bank</a:t>
            </a:r>
            <a:r>
              <a:rPr b="1" lang="zh-CN" sz="4400" spc="-1" strike="noStrike">
                <a:solidFill>
                  <a:srgbClr val="996600"/>
                </a:solidFill>
                <a:latin typeface="Tahoma"/>
              </a:rPr>
              <a:t>的</a:t>
            </a:r>
            <a:r>
              <a:rPr b="1" i="1" lang="zh-CN" sz="5400" spc="-1" strike="noStrike">
                <a:solidFill>
                  <a:srgbClr val="660033"/>
                </a:solidFill>
                <a:latin typeface="Tahoma"/>
                <a:ea typeface="黑体"/>
              </a:rPr>
              <a:t>创始国</a:t>
            </a:r>
            <a:r>
              <a:rPr b="1" lang="zh-CN" sz="4800" spc="-1" strike="noStrike">
                <a:solidFill>
                  <a:srgbClr val="996600"/>
                </a:solidFill>
                <a:latin typeface="Tahoma"/>
              </a:rPr>
              <a:t>之一</a:t>
            </a:r>
            <a:r>
              <a:rPr b="1" lang="zh-CN" sz="4400" spc="-1" strike="noStrike">
                <a:solidFill>
                  <a:srgbClr val="996600"/>
                </a:solidFill>
                <a:latin typeface="Tahoma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8E73-B16F-4295-A5E4-ED2ECA22F9E4}" type="datetime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681C-8EC7-40F0-80EA-BB776A0548FC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 Narrow"/>
                <a:ea typeface="楷体_GB2312"/>
              </a:rPr>
              <a:t>复习提问：</a:t>
            </a:r>
            <a:r>
              <a:rPr b="0" lang="zh-CN" sz="4400" spc="-1" strike="noStrike" u="sng">
                <a:solidFill>
                  <a:srgbClr val="dbbd71"/>
                </a:solidFill>
                <a:uFillTx/>
                <a:latin typeface="Arial Narrow"/>
                <a:ea typeface="楷体_GB2312"/>
              </a:rPr>
              <a:t>材料分析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的世界性经济危机时期，发达资本主义国家相继以提高关税来限制商品进口，如美国当时将关税提高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％的水平。这些措施的后果就是国际贸易量急剧下降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国际贸易额下降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/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国际贸易量下降了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/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上述材料反映了国际市场什么特点？针对上述情况该怎么办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2000">
    <p:newsflash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-533880"/>
            <a:ext cx="60962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巩固练习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、能够处理世界经济事务，协调世界经济关系的，具有权威性的国际经济组织是（    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欧共体 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世界贸易组织 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北美自由贸易区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国际货币基金组织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东亚经济圈（</a:t>
            </a: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）世界银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黑体"/>
                <a:ea typeface="黑体"/>
              </a:rPr>
              <a:t>　</a:t>
            </a:r>
            <a:r>
              <a:rPr b="1" lang="en-US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．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      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Ｂ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．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Ｃ</a:t>
            </a:r>
            <a:r>
              <a:rPr b="1" lang="zh-CN" sz="44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．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    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Ｄ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．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（</a:t>
            </a:r>
            <a:r>
              <a:rPr b="1" lang="en-US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533520" y="7621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一、选择题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55640" y="1700280"/>
            <a:ext cx="7920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　</a:t>
            </a:r>
            <a:r>
              <a:rPr b="1" lang="en-US" sz="4400" spc="-1" strike="noStrike">
                <a:solidFill>
                  <a:srgbClr val="6600ff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．磋商调解原则　　Ｂ．对发展中国家的特殊优惠待遇原则　　Ｃ．公平贸易原则　　Ｄ．非歧视原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823104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dbbd71"/>
                </a:solidFill>
                <a:latin typeface="宋体"/>
              </a:rPr>
              <a:t>、世界贸易组织在处理国际贸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dbbd71"/>
                </a:solidFill>
                <a:latin typeface="宋体"/>
              </a:rPr>
              <a:t>易关系中实施的最重要的原则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685800" y="533520"/>
            <a:ext cx="8153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、国际货币基金组织和世界银行的共同点 （    　　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．都能指导其成员国摆脱国际收支困境Ｂ．都能促进改革发展中国家经济的发展Ｃ．都能促进实际经济的稳定与发展Ｄ．都是全球性的重要的国际金融自制，是联合国的专门机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4267080" y="114300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ＡＢＣ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13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050"/>
          <p:cNvSpPr/>
          <p:nvPr/>
        </p:nvSpPr>
        <p:spPr>
          <a:xfrm>
            <a:off x="304920" y="609480"/>
            <a:ext cx="8610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、我国之所以要积极恢复在世界贸易组织中的缔约国地位，是因为</a:t>
            </a: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 （     　）</a:t>
            </a:r>
            <a:r>
              <a:rPr b="1" lang="en-US" sz="4400" spc="-1" strike="noStrike">
                <a:solidFill>
                  <a:srgbClr val="6600ff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．可以使我国更广泛地参加国际分工变化　　Ｂ．既有利于中国经济的发展，又有利于世界经济的发展　Ｃ．可以使我国享受最惠国待遇，增加出口　Ｄ．可以使出我国在国际贸易中参与公平竞争，推动企业改革向纵深发展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2051"/>
          <p:cNvSpPr/>
          <p:nvPr/>
        </p:nvSpPr>
        <p:spPr>
          <a:xfrm>
            <a:off x="1547640" y="19162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6600"/>
                </a:solidFill>
                <a:latin typeface="华文中宋"/>
                <a:ea typeface="华文中宋"/>
              </a:rPr>
              <a:t>ＡＢＣ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6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0962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二、简答题</a:t>
            </a:r>
            <a:br>
              <a:rPr sz="5400"/>
            </a:b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808000"/>
                </a:solidFill>
                <a:latin typeface="黑体"/>
                <a:ea typeface="黑体"/>
              </a:rPr>
              <a:t>、</a:t>
            </a:r>
            <a:r>
              <a:rPr b="0" lang="en-US" sz="4800" spc="-1" strike="noStrike">
                <a:solidFill>
                  <a:srgbClr val="808000"/>
                </a:solidFill>
                <a:latin typeface="黑体"/>
                <a:ea typeface="黑体"/>
              </a:rPr>
              <a:t>1997</a:t>
            </a:r>
            <a:r>
              <a:rPr b="0" lang="zh-CN" sz="4800" spc="-1" strike="noStrike">
                <a:solidFill>
                  <a:srgbClr val="808000"/>
                </a:solidFill>
                <a:latin typeface="黑体"/>
                <a:ea typeface="黑体"/>
              </a:rPr>
              <a:t>年泰国爆发金融危机，美元短缺外汇告急。请问：此时泰国应向世界银行还是国际货币基金组织争取大批紧急援助？为什么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990720" y="1143000"/>
            <a:ext cx="7315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中国需要世界贸易组织，世界贸易组织也需要中国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黑体"/>
                <a:ea typeface="黑体"/>
              </a:rPr>
              <a:t>根据所学知识，谈谈你对这句话的理解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026"/>
          <p:cNvSpPr/>
          <p:nvPr/>
        </p:nvSpPr>
        <p:spPr>
          <a:xfrm>
            <a:off x="1676520" y="1066680"/>
            <a:ext cx="61722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方正姚体"/>
                <a:ea typeface="方正姚体"/>
              </a:rPr>
              <a:t>三、辨析题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有人认为：中国加入</a:t>
            </a:r>
            <a:r>
              <a:rPr b="1" lang="en-US" sz="4400" spc="-1" strike="noStrike">
                <a:solidFill>
                  <a:srgbClr val="996600"/>
                </a:solidFill>
                <a:latin typeface="黑体"/>
                <a:ea typeface="黑体"/>
              </a:rPr>
              <a:t>WTO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不是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入世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而是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入套</a:t>
            </a:r>
            <a:r>
              <a:rPr b="1" lang="zh-CN" sz="4400" spc="-1" strike="noStrike">
                <a:solidFill>
                  <a:srgbClr val="808000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808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宋体"/>
              </a:rPr>
              <a:t>第一个主题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5" name="Picture 4" descr="26_8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WordArt 7"/>
          <p:cNvSpPr txBox="1"/>
          <p:nvPr/>
        </p:nvSpPr>
        <p:spPr>
          <a:xfrm>
            <a:off x="5029200" y="1143000"/>
            <a:ext cx="2819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再见！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240" y="-3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Arial"/>
                <a:ea typeface="黑体"/>
              </a:rPr>
              <a:t>学习目标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996600"/>
                </a:solidFill>
                <a:latin typeface="Tahoma"/>
              </a:rPr>
              <a:t>、</a:t>
            </a:r>
            <a:r>
              <a:rPr b="1" i="1" lang="zh-CN" sz="6000" spc="-1" strike="noStrike">
                <a:solidFill>
                  <a:srgbClr val="000066"/>
                </a:solidFill>
                <a:latin typeface="Tahoma"/>
                <a:ea typeface="黑体"/>
              </a:rPr>
              <a:t>知识</a:t>
            </a:r>
            <a:r>
              <a:rPr b="0" lang="zh-CN" sz="4000" spc="-1" strike="noStrike">
                <a:solidFill>
                  <a:srgbClr val="996600"/>
                </a:solidFill>
                <a:latin typeface="Tahoma"/>
              </a:rPr>
              <a:t>：</a:t>
            </a:r>
            <a:r>
              <a:rPr b="1" lang="zh-CN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识记世界贸易组织、国际货币基金组织和世界银行的现状和作用；了解我国加入</a:t>
            </a:r>
            <a:r>
              <a:rPr b="1" lang="en-US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WTO</a:t>
            </a:r>
            <a:r>
              <a:rPr b="1" lang="zh-CN" sz="4400" spc="-1" strike="noStrike">
                <a:solidFill>
                  <a:srgbClr val="ff0066"/>
                </a:solidFill>
                <a:latin typeface="华文中宋"/>
                <a:ea typeface="华文中宋"/>
              </a:rPr>
              <a:t>的意义以及中国为此而进行的长期不懈的努力</a:t>
            </a:r>
            <a:r>
              <a:rPr b="1" lang="zh-CN" sz="4400" spc="-1" strike="noStrike">
                <a:solidFill>
                  <a:srgbClr val="cc3300"/>
                </a:solidFill>
                <a:latin typeface="华文中宋"/>
                <a:ea typeface="华文中宋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996600"/>
                </a:solidFill>
                <a:latin typeface="Tahoma"/>
              </a:rPr>
              <a:t>、</a:t>
            </a:r>
            <a:r>
              <a:rPr b="1" i="1" lang="zh-CN" sz="6000" spc="-1" strike="noStrike">
                <a:solidFill>
                  <a:srgbClr val="000066"/>
                </a:solidFill>
                <a:latin typeface="Tahoma"/>
                <a:ea typeface="黑体"/>
              </a:rPr>
              <a:t>能力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</a:rPr>
              <a:t>：</a:t>
            </a:r>
            <a:r>
              <a:rPr b="1" lang="zh-CN" sz="4800" spc="-1" strike="noStrike">
                <a:solidFill>
                  <a:srgbClr val="9900ff"/>
                </a:solidFill>
                <a:latin typeface="华文中宋"/>
                <a:ea typeface="华文中宋"/>
              </a:rPr>
              <a:t>透视中国加入</a:t>
            </a:r>
            <a:r>
              <a:rPr b="1" lang="en-US" sz="4800" spc="-1" strike="noStrike">
                <a:solidFill>
                  <a:srgbClr val="9900ff"/>
                </a:solidFill>
                <a:latin typeface="华文中宋"/>
                <a:ea typeface="华文中宋"/>
              </a:rPr>
              <a:t>WTO</a:t>
            </a:r>
            <a:r>
              <a:rPr b="1" lang="zh-CN" sz="4800" spc="-1" strike="noStrike">
                <a:solidFill>
                  <a:srgbClr val="9900ff"/>
                </a:solidFill>
                <a:latin typeface="华文中宋"/>
                <a:ea typeface="华文中宋"/>
              </a:rPr>
              <a:t>进程及利弊分析。培养我们辩证思维和分析问题的能力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447920" y="12952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00"/>
                </a:solidFill>
                <a:latin typeface="Times New Roman"/>
                <a:ea typeface="宋体"/>
              </a:rPr>
              <a:t>3</a:t>
            </a:r>
            <a:r>
              <a:rPr b="1" i="1" lang="zh-CN" sz="5400" spc="-1" strike="noStrike">
                <a:solidFill>
                  <a:srgbClr val="996600"/>
                </a:solidFill>
                <a:latin typeface="Times New Roman"/>
                <a:ea typeface="宋体"/>
              </a:rPr>
              <a:t>、</a:t>
            </a:r>
            <a:r>
              <a:rPr b="1" i="1" lang="zh-CN" sz="5400" spc="-1" strike="noStrike">
                <a:solidFill>
                  <a:srgbClr val="ff0066"/>
                </a:solidFill>
                <a:latin typeface="Times New Roman"/>
                <a:ea typeface="黑体"/>
              </a:rPr>
              <a:t>觉悟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宋体"/>
              </a:rPr>
              <a:t>：</a:t>
            </a:r>
            <a:r>
              <a:rPr b="1" lang="zh-CN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通过对中国加入</a:t>
            </a:r>
            <a:r>
              <a:rPr b="1" lang="en-US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WTO</a:t>
            </a:r>
            <a:r>
              <a:rPr b="1" lang="zh-CN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问题的利弊分析，培养我们的</a:t>
            </a:r>
            <a:r>
              <a:rPr b="1" lang="zh-CN" sz="5400" spc="-1" strike="noStrike">
                <a:solidFill>
                  <a:srgbClr val="808000"/>
                </a:solidFill>
                <a:latin typeface="华文新魏"/>
                <a:ea typeface="华文新魏"/>
              </a:rPr>
              <a:t>开放</a:t>
            </a:r>
            <a:r>
              <a:rPr b="1" lang="zh-CN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意识和</a:t>
            </a:r>
            <a:r>
              <a:rPr b="1" lang="zh-CN" sz="5400" spc="-1" strike="noStrike">
                <a:solidFill>
                  <a:srgbClr val="808000"/>
                </a:solidFill>
                <a:latin typeface="华文新魏"/>
                <a:ea typeface="华文新魏"/>
              </a:rPr>
              <a:t>竞争</a:t>
            </a:r>
            <a:r>
              <a:rPr b="1" lang="zh-CN" sz="5400" spc="-1" strike="noStrike">
                <a:solidFill>
                  <a:srgbClr val="996600"/>
                </a:solidFill>
                <a:latin typeface="华文新魏"/>
                <a:ea typeface="华文新魏"/>
              </a:rPr>
              <a:t>意识，努力提高自身素质，振兴民族经济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能力要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2720" y="277920"/>
            <a:ext cx="62676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一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i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世界贸易组织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logo_en"/>
          <p:cNvPicPr/>
          <p:nvPr/>
        </p:nvPicPr>
        <p:blipFill>
          <a:blip r:embed="rId2"/>
          <a:stretch/>
        </p:blipFill>
        <p:spPr>
          <a:xfrm>
            <a:off x="1476360" y="1557360"/>
            <a:ext cx="6858000" cy="380988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3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28600" y="0"/>
            <a:ext cx="868680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黑体"/>
                <a:ea typeface="黑体"/>
              </a:rPr>
              <a:t>       </a:t>
            </a:r>
            <a:r>
              <a:rPr b="1" lang="en-US" sz="54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、</a:t>
            </a:r>
            <a:r>
              <a:rPr b="1" lang="zh-CN" sz="5400" spc="-1" strike="noStrike">
                <a:solidFill>
                  <a:srgbClr val="808000"/>
                </a:solidFill>
                <a:latin typeface="黑体"/>
                <a:ea typeface="黑体"/>
              </a:rPr>
              <a:t>基本情况</a:t>
            </a:r>
            <a:r>
              <a:rPr b="1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宋体"/>
              </a:rPr>
              <a:t>       </a:t>
            </a:r>
            <a:r>
              <a:rPr b="0" i="1" lang="zh-CN" sz="2800" spc="-1" strike="noStrike">
                <a:solidFill>
                  <a:srgbClr val="996600"/>
                </a:solidFill>
                <a:latin typeface="华文中宋"/>
                <a:ea typeface="华文中宋"/>
              </a:rPr>
              <a:t>     </a:t>
            </a:r>
            <a:r>
              <a:rPr b="0" i="1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WTO</a:t>
            </a: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是一个独立于联合国的永久性的国际组织。其前身是</a:t>
            </a:r>
            <a:r>
              <a:rPr b="0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GATT</a:t>
            </a:r>
            <a:r>
              <a:rPr b="0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，该组织的基本原则和宗旨是通过实施市场开放、非歧视和公平贸易等原则来达到推动实现世界贸易自由化的目标。它负责管理世界经济贸易秩序，总部设在日内瓦莱蒙湖畔的关贸总协定大楼内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TO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基本情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4920" y="6048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00"/>
                </a:solidFill>
                <a:latin typeface="Times New Roman"/>
                <a:ea typeface="宋体"/>
              </a:rPr>
              <a:t>        </a:t>
            </a:r>
            <a:r>
              <a:rPr b="1" i="1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WTO</a:t>
            </a:r>
            <a:r>
              <a:rPr b="1" lang="zh-CN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规模和领域不断扩大，有关税发展到非关税措施，由货物贸易延伸到服务贸易、知识产权保护和投资措施，并将扩大到环保。因此，它组织管辖的经贸范围之广、影响力之大，是其他国际经济组织无法相比的。对整个世界经济发展起着举足轻重的作用。它与</a:t>
            </a:r>
            <a:r>
              <a:rPr b="1" lang="en-US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IMF</a:t>
            </a:r>
            <a:r>
              <a:rPr b="1" lang="zh-CN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、</a:t>
            </a:r>
            <a:r>
              <a:rPr b="1" lang="en-US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World  Bank</a:t>
            </a:r>
            <a:r>
              <a:rPr b="1" lang="zh-CN" sz="4000" spc="-1" strike="noStrike">
                <a:solidFill>
                  <a:srgbClr val="808000"/>
                </a:solidFill>
                <a:latin typeface="华文中宋"/>
                <a:ea typeface="华文中宋"/>
              </a:rPr>
              <a:t>一道对当代世界贸易和金融活动进行着广泛的调节，成为当今世界的三大支柱之一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TO</a:t>
            </a: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的发展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driveb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3"/>
          <p:cNvSpPr/>
          <p:nvPr/>
        </p:nvSpPr>
        <p:spPr>
          <a:xfrm>
            <a:off x="45720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672C-6B67-4B92-B272-2182023D3988}" type="datetime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灯片编号占位符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C9EF-72CF-4340-BCD4-87F8CC15BA5D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世界贸易组织的作用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材料一：截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6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月，世界贸易成员国增加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9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个，其贸易额已占世界贸易总额的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材料二：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8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至，发达国家的关税平均水平已从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前的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下降到了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；发展中国家的平均关税水平也下降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世界贸易组织又确立关税总水平下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，并在近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个产品部门实行了零关税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材料三：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9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－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0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年，世界贸易额的平均增长率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.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，世界贸易量年均增长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％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上述三组材料分别说明了什么？有什么内在联系？三组材料共同说明了什么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86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80880" y="15238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（</a:t>
            </a:r>
            <a:r>
              <a:rPr b="1" lang="en-US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它较大幅度地降低了世界各地进口关税的水平，有利地促进了国际贸易的发展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。（</a:t>
            </a:r>
            <a:r>
              <a:rPr b="1" lang="en-US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它规定了国际贸易中的各项基本原则，在一定程度上促进了国际贸易的有秩序的进行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。（</a:t>
            </a:r>
            <a:r>
              <a:rPr b="1" lang="en-US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3</a:t>
            </a:r>
            <a:r>
              <a:rPr b="1" lang="zh-CN" sz="4000" spc="-1" strike="noStrike">
                <a:solidFill>
                  <a:srgbClr val="996600"/>
                </a:solidFill>
                <a:latin typeface="华文中宋"/>
                <a:ea typeface="华文中宋"/>
              </a:rPr>
              <a:t>）</a:t>
            </a:r>
            <a:r>
              <a:rPr b="1" lang="zh-CN" sz="4000" spc="-1" strike="noStrike">
                <a:solidFill>
                  <a:srgbClr val="ff0066"/>
                </a:solidFill>
                <a:latin typeface="华文中宋"/>
                <a:ea typeface="华文中宋"/>
              </a:rPr>
              <a:t>它实施了一些有利于发展中国家的条款，使发展中国家对外贸易得到进一步发展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375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WTO</a:t>
            </a:r>
            <a:r>
              <a:rPr b="0" lang="zh-CN" sz="4400" spc="-1" strike="noStrike">
                <a:solidFill>
                  <a:srgbClr val="ff3399"/>
                </a:solidFill>
                <a:latin typeface="Arial"/>
              </a:rPr>
              <a:t>的重要作用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2" name="camera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36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62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600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s</cp:lastModifiedBy>
  <dcterms:modified xsi:type="dcterms:W3CDTF">2017-10-30T22:37:27Z</dcterms:modified>
  <cp:revision>65</cp:revision>
  <dc:subject/>
  <dc:title>PowerPoint 演示文稿</dc:title>
</cp:coreProperties>
</file>